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A79-84AA-44A2-9927-40A9AA00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1BE-CD29-49BF-B83E-5683D7E2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5093-82C8-4674-B2EA-ED64BBBCC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3E5-30F6-4DF6-8AA8-4E0F9568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07F3-63CA-4DE1-A8D1-80F6A405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8F85-6A43-4B45-BCA2-AF5842ED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79A2-47D5-4562-BDE7-1B1171CD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E56A-3352-4FED-942E-27D943C9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70E9-E83F-44A8-B2DB-A12E71D7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66EC-04B6-4B5D-8C02-12730F96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0AB5-BF3A-410A-89EF-A5D372C1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473-AC13-4EA7-9A24-4788F0EF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6998-F748-408A-B056-8C6801D4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3840-84CB-4552-863E-ADE4C6F6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BD46-DAD2-4B18-994E-0C4B4140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BA1A-891B-4085-A810-061F4A1B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5826-730A-42FB-9715-53EF1A7C8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61AF6-0A4D-41BB-A188-CD41E188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DD930-3910-4DE8-9D9D-3DC4175A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FA599-B4D8-45CF-B260-0C683C9F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26D90-D2E6-43FD-B8EA-E3D8EB7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035F9-66E8-4248-A5F3-852FC365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7074-7C4E-49D9-A804-32614F99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959C8-0225-479E-8CBF-F55563A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0FF0-DD04-4984-8B2C-FCF92CEF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90E7-5B5E-4A36-BC3B-6A33BF8C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A44A-F778-4445-835A-5A43712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EDAD5-58D5-4978-934F-4527B894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CB5D2-A244-4B2F-9529-AEBB8AB0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8DB0-6526-4684-8402-4DAF875C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BD120-5E2F-4270-935B-12C17A45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7264C-73B9-47EA-9281-C95198BD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D5BF-EFC3-420E-A580-37615D60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6320-F5E2-4AEF-8263-1A25F3A0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EAE6-D667-4A1D-B5E4-DAEF1BD4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9D39-FCAD-45BC-B710-D94D4270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F3323-894E-428A-99AD-95254D4D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C5039-AB3A-43E9-9208-D38448BD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7A9AE-632D-4259-8401-F4DB6FC7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1E395-E478-4804-9C88-8CDABFE9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B740-F896-4EC9-B0CF-D7A00FD7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F036-DECC-46A9-92CE-251EECBD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2D170-88C1-4A75-A095-71228EDF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5C8-8B79-486C-BD1E-C8C292EF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C55A-A24B-4CF1-8251-E15A28C2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0BA-9CDE-4519-9963-A5643627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679-B380-4415-B1DE-2945B03C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A00-AED7-4CA1-85E5-35349FF4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D3E4-0617-4BE4-8331-438AA5AB285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42D7-8DD9-4A19-80F0-51D14524A4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4442-2F5A-4B24-93C7-1A3A06908F6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20FD-6BFF-4DBE-AEBA-2BC1739C29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vic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9-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3123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register for the draft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rustworthiness and Honesty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urteous and Respectful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actices Patriotism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actices Responsibility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above are all traits that best describe -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Juvenile delinquen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raits of a good citiz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Regulations teachers follo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ivil du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"/>
          <p:cNvSpPr/>
          <p:nvPr/>
        </p:nvSpPr>
        <p:spPr>
          <a:xfrm>
            <a:off x="685800" y="304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Traits of a good 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system gives each of the three branches of government ways to limit the powers of the other branches?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ystem of checks and balan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Democratic ac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yrannical rul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opular sovereig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6781680" y="44197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2"/>
          <p:cNvSpPr/>
          <p:nvPr/>
        </p:nvSpPr>
        <p:spPr>
          <a:xfrm>
            <a:off x="304920" y="2971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System of checks and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powers over the legislative branch by declaring laws unconstitutional?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Execu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Judicial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egisla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"/>
          <p:cNvSpPr/>
          <p:nvPr/>
        </p:nvSpPr>
        <p:spPr>
          <a:xfrm>
            <a:off x="457200" y="2286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Judicial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powers over the legislative branch by vetoing acts of Congress and calling Congress into special session?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Execu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Judicial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egisla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6019920" y="44956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Executive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helps to prevent any one branch of government from abusing its power?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eparating power among the legislative, executive and judicial branch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Keeping each branch in its own build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iving each branch an equal amount of 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V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"/>
          <p:cNvSpPr/>
          <p:nvPr/>
        </p:nvSpPr>
        <p:spPr>
          <a:xfrm>
            <a:off x="7543800" y="35053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304920" y="29718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Separating power among the legislative, executive and judicial bra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46483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a responsibility of a citizen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fluence government by communicating with government official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bey law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ay taxe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erve in the armed forces if called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457200" y="457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powers over the executive branch by overriding vetoes and impeaching the President?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Execu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Judicial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egislative branc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ocracy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542880" y="66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Legislative Bran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BEST describes the amendment proces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nterpret and then vo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atify and then propo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pose and then ratif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Vote and then interpret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457200" y="1522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Propose and then ratif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Constitution has been amended ____ times.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20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23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25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27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"/>
          <p:cNvSpPr/>
          <p:nvPr/>
        </p:nvSpPr>
        <p:spPr>
          <a:xfrm>
            <a:off x="457200" y="533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2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2"/>
          <p:cNvSpPr/>
          <p:nvPr/>
        </p:nvSpPr>
        <p:spPr>
          <a:xfrm>
            <a:off x="457200" y="5486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formal change to the Constitution is a(n) -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Vo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mend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pos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terpretation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"/>
          <p:cNvSpPr/>
          <p:nvPr/>
        </p:nvSpPr>
        <p:spPr>
          <a:xfrm>
            <a:off x="457200" y="380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Amend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240" y="36576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fluence government by communicating with government officials</a:t>
            </a: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5029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en taking the citizenship exam, an alien must be able to ______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monstrate ability to perform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asic mathematical function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monstrate knowledge of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merican history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cite the Pledge of Allegianc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peak English perfectly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533520" y="380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30481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monstrate knowledge of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merican history</a:t>
            </a: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itizens who do not fulfill their civic duties ___________.</a:t>
            </a:r>
            <a:br>
              <a:rPr sz="3500"/>
            </a:br>
            <a:br>
              <a:rPr sz="35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n’t required to by la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ce legal consequenc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fulfill them when they have tim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request 1 additional year to fulfil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609480" y="5335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ace legal consequences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723920"/>
            <a:ext cx="830556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cause so many immigrants have come to our country, we have a ______ population. 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emocratic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ivers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publican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trange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838080" y="4572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560" y="3200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ivers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41972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ou are a citizen because ____.</a:t>
            </a:r>
            <a:br>
              <a:rPr sz="3500"/>
            </a:br>
            <a:br>
              <a:rPr sz="35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ve lived here for more th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yea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passed the citizenship exa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ere born he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parents filled out the paper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533520" y="6858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179820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itizenship:  Duties, Rights, and Libertie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3 a-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4 a-e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oundations of American Government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2 a-c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6 c-d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3200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you were born here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3619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are 5 ways that you or your parents could participate in community service.</a:t>
            </a: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304920" y="762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nteer to support democratic instit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 concern about the welfare of the community as a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 to make the community a good place to work and l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lunteering in nursing ho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4038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not a freedom guaranteed by the first amendment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from taxe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609480" y="380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3505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reedom from taxes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520" y="31240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individuals are free to express their opinions and beliefs?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from taxe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1143000" y="380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4723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government may not establish an official religion, nor endorese, or unduly interfere with the free exercise of religion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of the press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Freedom from taxe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1219320" y="1983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reedom of relig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560" y="4038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amendment to the Constitution of the United States of America defines citizenship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5334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____ amendment states “All persons born or naturalized in the United States, and subject to the jurisdiction thereof, are citizens of the United States and the state wherein they reside.”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s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5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  14th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  22nd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"/>
          <p:cNvSpPr/>
          <p:nvPr/>
        </p:nvSpPr>
        <p:spPr>
          <a:xfrm>
            <a:off x="380880" y="2286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3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952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the preamble to the Constitution of the United States of America expres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s forth the goals and purposes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vern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s the relationship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and state governments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s why the United St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came an independent countr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ains that the people hav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 and power to gover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mselv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7696080" y="52578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Sets forth the goals and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urposes of the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NOT a purpose of the U.S. government?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sure domestic pe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nsure weal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establish jus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rovide defen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"/>
          <p:cNvSpPr/>
          <p:nvPr/>
        </p:nvSpPr>
        <p:spPr>
          <a:xfrm>
            <a:off x="6324480" y="43434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To ensure wealth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457200" y="457200"/>
            <a:ext cx="8229600" cy="5943600"/>
            <a:chOff x="457200" y="457200"/>
            <a:chExt cx="8229600" cy="5943600"/>
          </a:xfrm>
        </p:grpSpPr>
        <p:sp>
          <p:nvSpPr>
            <p:cNvPr id="284" name="Rectangle 3"/>
            <p:cNvSpPr/>
            <p:nvPr/>
          </p:nvSpPr>
          <p:spPr>
            <a:xfrm>
              <a:off x="457200" y="45720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</a:rPr>
                <a:t>How does the Preamble to the Constitution of the United States of America begin?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57200" y="1989000"/>
              <a:ext cx="8229600" cy="44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To form a more perfect union…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We the people…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We are gathered here today…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“Ladies and gentlemen, may I have your attention…”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1"/>
          <p:cNvSpPr/>
          <p:nvPr/>
        </p:nvSpPr>
        <p:spPr>
          <a:xfrm>
            <a:off x="7086600" y="327672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“We the people…”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2"/>
          <p:cNvGrpSpPr/>
          <p:nvPr/>
        </p:nvGrpSpPr>
        <p:grpSpPr>
          <a:xfrm>
            <a:off x="457200" y="1066680"/>
            <a:ext cx="8229600" cy="5943600"/>
            <a:chOff x="457200" y="1066680"/>
            <a:chExt cx="8229600" cy="5943600"/>
          </a:xfrm>
        </p:grpSpPr>
        <p:sp>
          <p:nvSpPr>
            <p:cNvPr id="289" name="Rectangle 3"/>
            <p:cNvSpPr/>
            <p:nvPr/>
          </p:nvSpPr>
          <p:spPr>
            <a:xfrm>
              <a:off x="457200" y="1066680"/>
              <a:ext cx="7543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000000"/>
                  </a:solidFill>
                  <a:latin typeface="Arial"/>
                </a:rPr>
                <a:t>What fundamental political principle means people are the source of any and all government power? 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4"/>
            <p:cNvSpPr/>
            <p:nvPr/>
          </p:nvSpPr>
          <p:spPr>
            <a:xfrm>
              <a:off x="457200" y="2598480"/>
              <a:ext cx="8229600" cy="44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onsent of the governe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Limited government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C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Rule of law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D.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Separation of powers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1"/>
          <p:cNvSpPr/>
          <p:nvPr/>
        </p:nvSpPr>
        <p:spPr>
          <a:xfrm>
            <a:off x="5943600" y="38098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Consent of the governe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undamental political principle means the government is not all-powerful and may do only those things people have given it the power to do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of La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Gover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"/>
          <p:cNvSpPr/>
          <p:nvPr/>
        </p:nvSpPr>
        <p:spPr>
          <a:xfrm>
            <a:off x="457200" y="457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.  14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Limited governme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457200" y="4495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undamental political principle means the government and those who govern are bound by the law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paration of Power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of Law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mited Govern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457200" y="380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45720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Rule of la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457200" y="4495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undamental political principle means that in a democratic system of government the people rul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itaria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is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tatorshi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"/>
          <p:cNvSpPr/>
          <p:nvPr/>
        </p:nvSpPr>
        <p:spPr>
          <a:xfrm>
            <a:off x="762120" y="4572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143000" y="3200400"/>
            <a:ext cx="45180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mocrac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457200" y="4495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government where people elect public officeholders to make laws and conduct government business on their behalf is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otalitarian governmen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irect democrac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ocialist democrac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representativ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"/>
          <p:cNvSpPr/>
          <p:nvPr/>
        </p:nvSpPr>
        <p:spPr>
          <a:xfrm>
            <a:off x="457200" y="533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3200400"/>
            <a:ext cx="83059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 representative governme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57200" y="44956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type of political principles define and shape American constitutional government?</a:t>
            </a:r>
            <a:br>
              <a:rPr sz="3500"/>
            </a:b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ament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c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le of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838080" y="380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457200" y="3200400"/>
            <a:ext cx="83059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.  Fundamenta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457200" y="4876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mmigration to the United States has led to --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eater turnouts for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ecrease in federal tax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ncreasingly diverse socie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wer citizens owing the U. S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egiance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453960" y="1936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830556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ne duty of a U.S. citizen is _____.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you must do by law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can choose to do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that you want to do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you should do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533520" y="6094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3200400"/>
            <a:ext cx="8305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.  An increasingly diverse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ociet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57200" y="5943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the beginning of the Preamble to the Constitution of the United States of America establish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 power of government com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the peopl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 amendment process i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the executive branch ha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ow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each branch of the govern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 limit the powers of the oth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8001000" y="434340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457200" y="3200400"/>
            <a:ext cx="8305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.  That the power of government 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mes from the peopl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type of society requires an active participation of its citizen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at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crati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itaria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685800" y="3808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457200" y="3200400"/>
            <a:ext cx="83059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mocratic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457200" y="58672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____ is an individual with certain rights and duties under a government and who, by birth or by choice, owes allegiance to that government.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o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ishma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tize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"/>
          <p:cNvSpPr/>
          <p:nvPr/>
        </p:nvSpPr>
        <p:spPr>
          <a:xfrm>
            <a:off x="6172200" y="51055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Citi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457200" y="5334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examples of democratic institutions that a citizen could volunteer for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gue of Women Vote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erican Red Cros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 Brother/Big Siste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ll-time job teach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6553080" y="42670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Full-time teaching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ach of the following is a democratic institution a citizen could volunteer for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 healt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eying the law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"/>
          <p:cNvSpPr/>
          <p:nvPr/>
        </p:nvSpPr>
        <p:spPr>
          <a:xfrm>
            <a:off x="457200" y="3049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2971800"/>
            <a:ext cx="83055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omething you must do by law</a:t>
            </a: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Obeying the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How does an individual 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est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serve the public good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at Burger K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ying football at the pa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ging out with frien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unteer in your communi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685800" y="457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1066680" y="32464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Volunteer in your co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Obeying federal, state, and local laws is considered every citizen’s - </a:t>
            </a: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"/>
          <p:cNvSpPr/>
          <p:nvPr/>
        </p:nvSpPr>
        <p:spPr>
          <a:xfrm>
            <a:off x="99072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du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57200" y="4876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the press has the right to gather and publish information, including that which criticizes the government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r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et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457200" y="304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066680" y="324648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Freedom of 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"/>
          <p:cNvSpPr/>
          <p:nvPr/>
        </p:nvSpPr>
        <p:spPr>
          <a:xfrm>
            <a:off x="457200" y="45720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individuals may peacefully gather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r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et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"/>
          <p:cNvSpPr/>
          <p:nvPr/>
        </p:nvSpPr>
        <p:spPr>
          <a:xfrm>
            <a:off x="762120" y="380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1066680" y="3246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Freedom of Assemb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457200" y="45720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First Amendment freedom guarantees that individuals have the right to make their views known to public official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res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Assembly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Peti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457200" y="609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457200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responsibility of a U.S. citizen is _____.</a:t>
            </a:r>
            <a:br>
              <a:rPr sz="3500"/>
            </a:br>
            <a:br>
              <a:rPr sz="35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you are required to do by law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you do voluntaril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you must do or there will b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gal consequenc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hing your parents make you d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"/>
          <p:cNvSpPr/>
          <p:nvPr/>
        </p:nvSpPr>
        <p:spPr>
          <a:xfrm>
            <a:off x="60948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1066680" y="3246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Freedom of 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Amendment to the Constitution of the United States of America extends the due process protection to actions of the stat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First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Fifth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ent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Fourtee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1"/>
          <p:cNvSpPr/>
          <p:nvPr/>
        </p:nvSpPr>
        <p:spPr>
          <a:xfrm>
            <a:off x="5867280" y="472428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1066680" y="3246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Fourteen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457200" y="52578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documents that influenced the Constitution of the United States of America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Virginia Declaration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"/>
          <p:cNvSpPr/>
          <p:nvPr/>
        </p:nvSpPr>
        <p:spPr>
          <a:xfrm>
            <a:off x="609480" y="380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1066680" y="32464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The Magna Car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stated grievances against the king of Great Britain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457200" y="457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1066680" y="3246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The Declaration of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declared the colonies independence from Great Britain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457200" y="533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066680" y="3246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The Declaration of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457200" y="51055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Declaration of Independence established the idea that -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A country should decide what rights it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tizens wa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ll citizens, both men and wome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uld have the right to vo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America should open its doors to al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uge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All people are equal under the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7848720" y="439596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something you do voluntarily</a:t>
            </a:r>
            <a:br>
              <a:rPr sz="3900"/>
            </a:b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1066680" y="324648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All people are equal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under the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457200" y="51055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document establishes the structure of the United States government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762120" y="1159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2"/>
          <p:cNvSpPr/>
          <p:nvPr/>
        </p:nvSpPr>
        <p:spPr>
          <a:xfrm>
            <a:off x="762120" y="2971800"/>
            <a:ext cx="754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The Constitution of the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United States of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merica, including the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457200" y="53341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established the first form of national government for the independent states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7162920" y="358128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457200" y="54100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ensured freedom of religious beliefs and opinions for all the people of Virginia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Virginia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he Virginia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irginia Statute for Religio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Virginia Freedom for all Relig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7315200" y="320040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304920" y="2971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.  The Virginia Statute for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54100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served as a model for the Bill of Rights of the Constitution of the United States of America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Virginia Declaration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he Virginia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irginia Statute for Religio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Virginia Freedom for all Relig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7391520" y="380988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304920" y="2971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The Virginia Declaration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457200" y="54100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articulated the rights of Englishmen guaranteed to colonis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Virginia Declaration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he Virginia Constitu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irginia Statute for Religiou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do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harters of the Virginia Compan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7238880" y="373392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502920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a duty of a citizen?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gister and vot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gister for the draft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espect others' rights to an equal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voice in government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serve in voluntary, appointed 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ositions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533520" y="4572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304920" y="29718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D.  Charters of the Virginia 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Company of Lon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457200" y="4800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Declaration of Independence affirmed that all men had certain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ivil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Unalienable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Voting rights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nstitution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"/>
          <p:cNvSpPr/>
          <p:nvPr/>
        </p:nvSpPr>
        <p:spPr>
          <a:xfrm>
            <a:off x="457200" y="304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Unalienable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457200" y="48006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maintained that major powers resided with individual stat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"/>
          <p:cNvSpPr/>
          <p:nvPr/>
        </p:nvSpPr>
        <p:spPr>
          <a:xfrm>
            <a:off x="6781680" y="434016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document guarantees equality under the law, protects the fundamental freedom of religion, speech, press, assembly and petition and affirms individual worth and dignity of all peopl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"/>
          <p:cNvSpPr/>
          <p:nvPr/>
        </p:nvSpPr>
        <p:spPr>
          <a:xfrm>
            <a:off x="7162920" y="46483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304920" y="29718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A.  The United States Constitution, including 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2"/>
          <p:cNvSpPr/>
          <p:nvPr/>
        </p:nvSpPr>
        <p:spPr>
          <a:xfrm>
            <a:off x="457200" y="495288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early document led to the writing of the Constitution of the United States of America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 United States Constitu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ing the Bill of Righ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rticles of Confede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Declaration of Independen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457200" y="889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304920" y="29718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c1302"/>
                </a:solidFill>
                <a:latin typeface="Arial"/>
              </a:rPr>
              <a:t>B.  Articles of Confed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2:53:18Z</dcterms:created>
  <dc:creator>paupulley</dc:creator>
  <dc:description/>
  <dc:language>en-US</dc:language>
  <cp:lastModifiedBy>Deborah L. Welker</cp:lastModifiedBy>
  <dcterms:modified xsi:type="dcterms:W3CDTF">2012-05-25T10:38:32Z</dcterms:modified>
  <cp:revision>9</cp:revision>
  <dc:subject/>
  <dc:title>Civics</dc:title>
</cp:coreProperties>
</file>